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30946-F409-4FC4-84F0-DFF994D3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392A0-EA65-4BBB-AD43-EA838D38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C75EF-F718-496F-BFE2-FB691393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FE9AE-5035-47BA-982A-6E47097E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7A24-A465-4975-B604-72EAB2BC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4737-052D-4EBE-B7FE-990F88F3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34AD-2962-4040-B2F6-3AF1F8CD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3B2A-3D84-45F8-BCD2-34394883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E53C-F3E2-4886-8D1F-7087C99D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8BD6-1E55-47D4-8C2F-A37EA354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EFED-4355-47FA-8AF0-E220E5FA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00E78-3C2F-4E2A-9132-652E50D1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466F-187E-4CAF-B694-61E5F073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499E-D3DD-4287-A944-FBD67035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7F88-76BE-4B63-9F16-B03CC8D4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E5A0-A808-4D42-ACEF-C03E8A9A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B7F1-AE37-456E-A26D-1C4522AA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3335E-AD56-4C2C-B9B4-59F8F8F1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8FFF2-B683-419E-8A3B-0E41E21D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0FF06-53E3-493E-B6CB-C4805FCC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4310B-EAF1-476A-8B02-2376DCEF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AC30-4FD1-4E9D-B750-45EBAAB9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910E3-1906-4EAC-89D9-3FB3CB39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A3E6C-DC0F-48A4-9559-BFB15BE7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E2F5-57BF-46A1-A83E-55ED673493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B3FB-135A-443D-B60B-70276BFE6D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6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Organization Chart 7"/>
          <p:cNvGrpSpPr/>
          <p:nvPr/>
        </p:nvGrpSpPr>
        <p:grpSpPr>
          <a:xfrm>
            <a:off x="395280" y="476280"/>
            <a:ext cx="8424360" cy="5759280"/>
            <a:chOff x="395280" y="476280"/>
            <a:chExt cx="8424360" cy="5759280"/>
          </a:xfrm>
        </p:grpSpPr>
        <p:cxnSp>
          <p:nvCxnSpPr>
            <p:cNvPr id="112" name="_s1028"/>
            <p:cNvCxnSpPr>
              <a:stCxn id="113" idx="0"/>
              <a:endCxn id="114" idx="3"/>
            </p:cNvCxnSpPr>
            <p:nvPr/>
          </p:nvCxnSpPr>
          <p:spPr>
            <a:xfrm flipV="1" rot="16200000">
              <a:off x="5669280" y="1614960"/>
              <a:ext cx="1152360" cy="3480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4577040" y="2707200"/>
              <a:ext cx="1152360" cy="1296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7" name="_s1030"/>
            <p:cNvCxnSpPr>
              <a:stCxn id="118" idx="0"/>
              <a:endCxn id="114" idx="3"/>
            </p:cNvCxnSpPr>
            <p:nvPr/>
          </p:nvCxnSpPr>
          <p:spPr>
            <a:xfrm flipH="1" flipV="1" rot="5400000">
              <a:off x="3484440" y="2909880"/>
              <a:ext cx="1152360" cy="891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9" name="_s1031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392200" y="1817640"/>
              <a:ext cx="1152360" cy="3075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sp>
          <p:nvSpPr>
            <p:cNvPr id="114" name="_s1032"/>
            <p:cNvSpPr/>
            <p:nvPr/>
          </p:nvSpPr>
          <p:spPr>
            <a:xfrm>
              <a:off x="3671640" y="47628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Пита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ве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3"/>
            <p:cNvSpPr/>
            <p:nvPr/>
          </p:nvSpPr>
          <p:spPr>
            <a:xfrm>
              <a:off x="39528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257940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5"/>
            <p:cNvSpPr/>
            <p:nvPr/>
          </p:nvSpPr>
          <p:spPr>
            <a:xfrm>
              <a:off x="476352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6"/>
            <p:cNvSpPr/>
            <p:nvPr/>
          </p:nvSpPr>
          <p:spPr>
            <a:xfrm>
              <a:off x="694764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WordArt 29"/>
          <p:cNvSpPr txBox="1"/>
          <p:nvPr/>
        </p:nvSpPr>
        <p:spPr>
          <a:xfrm rot="20364000">
            <a:off x="4716360" y="486864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4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лево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43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30"/>
          <p:cNvSpPr txBox="1"/>
          <p:nvPr/>
        </p:nvSpPr>
        <p:spPr>
          <a:xfrm rot="20677800">
            <a:off x="2627280" y="479700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2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л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2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31"/>
          <p:cNvSpPr txBox="1"/>
          <p:nvPr/>
        </p:nvSpPr>
        <p:spPr>
          <a:xfrm rot="20751600">
            <a:off x="469800" y="4857840"/>
            <a:ext cx="15163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8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8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9"/>
          <p:cNvSpPr txBox="1"/>
          <p:nvPr/>
        </p:nvSpPr>
        <p:spPr>
          <a:xfrm>
            <a:off x="2411280" y="112536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оительный материал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10"/>
          <p:cNvSpPr txBox="1"/>
          <p:nvPr/>
        </p:nvSpPr>
        <p:spPr>
          <a:xfrm>
            <a:off x="468360" y="1052640"/>
            <a:ext cx="168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11"/>
          <p:cNvSpPr txBox="1"/>
          <p:nvPr/>
        </p:nvSpPr>
        <p:spPr>
          <a:xfrm>
            <a:off x="539640" y="4005360"/>
            <a:ext cx="385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нужен для: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WordArt 13"/>
          <p:cNvSpPr txBox="1"/>
          <p:nvPr/>
        </p:nvSpPr>
        <p:spPr>
          <a:xfrm>
            <a:off x="468360" y="4797360"/>
            <a:ext cx="1609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ост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14"/>
          <p:cNvSpPr txBox="1"/>
          <p:nvPr/>
        </p:nvSpPr>
        <p:spPr>
          <a:xfrm>
            <a:off x="468360" y="5373720"/>
            <a:ext cx="4705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азвития организм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5"/>
          <p:cNvSpPr txBox="1"/>
          <p:nvPr/>
        </p:nvSpPr>
        <p:spPr>
          <a:xfrm>
            <a:off x="468360" y="5805360"/>
            <a:ext cx="8069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повышения сопротивляемости болезн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Oval 16"/>
          <p:cNvSpPr/>
          <p:nvPr/>
        </p:nvSpPr>
        <p:spPr>
          <a:xfrm>
            <a:off x="2340000" y="1773360"/>
            <a:ext cx="4392720" cy="22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0"/>
          <p:cNvGrpSpPr/>
          <p:nvPr/>
        </p:nvGrpSpPr>
        <p:grpSpPr>
          <a:xfrm>
            <a:off x="3276720" y="1916280"/>
            <a:ext cx="2590200" cy="2017440"/>
            <a:chOff x="3276720" y="1916280"/>
            <a:chExt cx="2590200" cy="2017440"/>
          </a:xfrm>
        </p:grpSpPr>
        <p:sp>
          <p:nvSpPr>
            <p:cNvPr id="132" name="Puzzle3"/>
            <p:cNvSpPr/>
            <p:nvPr/>
          </p:nvSpPr>
          <p:spPr>
            <a:xfrm>
              <a:off x="4538160" y="1916280"/>
              <a:ext cx="1018080" cy="1072080"/>
            </a:xfrm>
            <a:custGeom>
              <a:avLst/>
              <a:gdLst>
                <a:gd name="textAreaLeft" fmla="*/ 106920 w 1018080"/>
                <a:gd name="textAreaRight" fmla="*/ 903240 w 1018080"/>
                <a:gd name="textAreaTop" fmla="*/ 383040 h 1072080"/>
                <a:gd name="textAreaBottom" fmla="*/ 1004400 h 107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Puzzle2"/>
            <p:cNvSpPr/>
            <p:nvPr/>
          </p:nvSpPr>
          <p:spPr>
            <a:xfrm>
              <a:off x="4241880" y="2697120"/>
              <a:ext cx="1625040" cy="976320"/>
            </a:xfrm>
            <a:custGeom>
              <a:avLst/>
              <a:gdLst>
                <a:gd name="textAreaLeft" fmla="*/ 405720 w 1625040"/>
                <a:gd name="textAreaRight" fmla="*/ 1217520 w 1625040"/>
                <a:gd name="textAreaTop" fmla="*/ 304200 h 976320"/>
                <a:gd name="textAreaBottom" fmla="*/ 92412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uzzle4"/>
            <p:cNvSpPr/>
            <p:nvPr/>
          </p:nvSpPr>
          <p:spPr>
            <a:xfrm>
              <a:off x="3612960" y="2685240"/>
              <a:ext cx="979920" cy="1248480"/>
            </a:xfrm>
            <a:custGeom>
              <a:avLst/>
              <a:gdLst>
                <a:gd name="textAreaLeft" fmla="*/ 93960 w 979920"/>
                <a:gd name="textAreaRight" fmla="*/ 916920 w 979920"/>
                <a:gd name="textAreaTop" fmla="*/ 327240 h 1248480"/>
                <a:gd name="textAreaBottom" fmla="*/ 923400 h 124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Puzzle1"/>
            <p:cNvSpPr/>
            <p:nvPr/>
          </p:nvSpPr>
          <p:spPr>
            <a:xfrm>
              <a:off x="3276720" y="2240640"/>
              <a:ext cx="1645560" cy="744120"/>
            </a:xfrm>
            <a:custGeom>
              <a:avLst/>
              <a:gdLst>
                <a:gd name="textAreaLeft" fmla="*/ 463320 w 1645560"/>
                <a:gd name="textAreaRight" fmla="*/ 1228680 w 1645560"/>
                <a:gd name="textAreaTop" fmla="*/ 88200 h 744120"/>
                <a:gd name="textAreaBottom" fmla="*/ 673560 h 74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5"/>
          <p:cNvSpPr txBox="1"/>
          <p:nvPr/>
        </p:nvSpPr>
        <p:spPr>
          <a:xfrm>
            <a:off x="611280" y="1052640"/>
            <a:ext cx="2295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 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3132000" y="1268280"/>
            <a:ext cx="3762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пливо для клеток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8" name="Picture 10" descr="anixmasc"/>
          <p:cNvPicPr/>
          <p:nvPr/>
        </p:nvPicPr>
        <p:blipFill>
          <a:blip r:embed="rId1"/>
          <a:stretch/>
        </p:blipFill>
        <p:spPr>
          <a:xfrm>
            <a:off x="3348000" y="2205000"/>
            <a:ext cx="1895400" cy="1152720"/>
          </a:xfrm>
          <a:prstGeom prst="rect">
            <a:avLst/>
          </a:prstGeom>
          <a:ln w="0">
            <a:noFill/>
          </a:ln>
        </p:spPr>
      </p:pic>
      <p:sp>
        <p:nvSpPr>
          <p:cNvPr id="139" name="WordArt 11"/>
          <p:cNvSpPr txBox="1"/>
          <p:nvPr/>
        </p:nvSpPr>
        <p:spPr>
          <a:xfrm>
            <a:off x="539640" y="4724280"/>
            <a:ext cx="41338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нужны дл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539640" y="5589720"/>
            <a:ext cx="65343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зической и умственной работ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Oval 13"/>
          <p:cNvSpPr/>
          <p:nvPr/>
        </p:nvSpPr>
        <p:spPr>
          <a:xfrm>
            <a:off x="2627280" y="1844640"/>
            <a:ext cx="316692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6"/>
          <p:cNvSpPr txBox="1"/>
          <p:nvPr/>
        </p:nvSpPr>
        <p:spPr>
          <a:xfrm>
            <a:off x="684360" y="1125360"/>
            <a:ext cx="1666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2700360" y="1268280"/>
            <a:ext cx="4191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лад еды, топлив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468360" y="4797360"/>
            <a:ext cx="36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нужны дл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395280" y="5734080"/>
            <a:ext cx="71629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ы мозга и нервной систем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Homepage"/>
          <p:cNvSpPr/>
          <p:nvPr/>
        </p:nvSpPr>
        <p:spPr>
          <a:xfrm>
            <a:off x="2627280" y="2133720"/>
            <a:ext cx="3673440" cy="2158920"/>
          </a:xfrm>
          <a:custGeom>
            <a:avLst/>
            <a:gdLst>
              <a:gd name="textAreaLeft" fmla="*/ 169560 w 3673440"/>
              <a:gd name="textAreaRight" fmla="*/ 3539880 w 3673440"/>
              <a:gd name="textAreaTop" fmla="*/ 1216800 h 2158920"/>
              <a:gd name="textAreaBottom" fmla="*/ 1714320 h 215892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5251" y="7101"/>
                </a:moveTo>
                <a:lnTo>
                  <a:pt x="5251" y="11160"/>
                </a:lnTo>
                <a:lnTo>
                  <a:pt x="16306" y="11160"/>
                </a:lnTo>
                <a:lnTo>
                  <a:pt x="16306" y="7052"/>
                </a:lnTo>
                <a:lnTo>
                  <a:pt x="16901" y="6561"/>
                </a:lnTo>
                <a:lnTo>
                  <a:pt x="15264" y="5236"/>
                </a:lnTo>
                <a:lnTo>
                  <a:pt x="15264" y="1636"/>
                </a:lnTo>
                <a:lnTo>
                  <a:pt x="13478" y="1636"/>
                </a:lnTo>
                <a:lnTo>
                  <a:pt x="13478" y="3698"/>
                </a:lnTo>
                <a:lnTo>
                  <a:pt x="11182" y="1669"/>
                </a:lnTo>
                <a:lnTo>
                  <a:pt x="4847" y="6561"/>
                </a:lnTo>
                <a:lnTo>
                  <a:pt x="5251" y="7101"/>
                </a:lnTo>
                <a:close/>
              </a:path>
              <a:path w="21600" h="21600">
                <a:moveTo>
                  <a:pt x="9396" y="11160"/>
                </a:moveTo>
                <a:lnTo>
                  <a:pt x="9396" y="7772"/>
                </a:lnTo>
                <a:lnTo>
                  <a:pt x="11820" y="7772"/>
                </a:lnTo>
                <a:lnTo>
                  <a:pt x="11820" y="11160"/>
                </a:lnTo>
                <a:lnTo>
                  <a:pt x="9396" y="1116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8172360" y="5445000"/>
            <a:ext cx="576360" cy="648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8000"/>
              <a:gd name="textAreaBottom" fmla="*/ 610920 h 648000"/>
            </a:gdLst>
            <a:ahLst/>
            <a:rect l="textAreaLeft" t="textAreaTop" r="textAreaRight" b="textAreaBottom"/>
            <a:pathLst>
              <a:path w="21600" h="24283">
                <a:moveTo>
                  <a:pt x="0" y="0"/>
                </a:moveTo>
                <a:lnTo>
                  <a:pt x="21600" y="0"/>
                </a:lnTo>
                <a:lnTo>
                  <a:pt x="21600" y="24283"/>
                </a:lnTo>
                <a:lnTo>
                  <a:pt x="0" y="24283"/>
                </a:lnTo>
                <a:close/>
              </a:path>
              <a:path fill="lightenLess" w="21600" h="242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3">
                <a:moveTo>
                  <a:pt x="21600" y="0"/>
                </a:moveTo>
                <a:lnTo>
                  <a:pt x="21600" y="24283"/>
                </a:lnTo>
                <a:lnTo>
                  <a:pt x="20200" y="22883"/>
                </a:lnTo>
                <a:lnTo>
                  <a:pt x="20200" y="1400"/>
                </a:lnTo>
                <a:close/>
              </a:path>
              <a:path fill="darkenLess" w="21600" h="24283">
                <a:moveTo>
                  <a:pt x="21600" y="24283"/>
                </a:moveTo>
                <a:lnTo>
                  <a:pt x="0" y="24283"/>
                </a:lnTo>
                <a:lnTo>
                  <a:pt x="1400" y="22883"/>
                </a:lnTo>
                <a:lnTo>
                  <a:pt x="20200" y="22883"/>
                </a:lnTo>
                <a:close/>
              </a:path>
              <a:path fill="lighten" w="21600" h="24283">
                <a:moveTo>
                  <a:pt x="0" y="242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3"/>
                </a:lnTo>
                <a:close/>
              </a:path>
              <a:path fill="darken" w="21600" h="24283">
                <a:moveTo>
                  <a:pt x="3794" y="5135"/>
                </a:moveTo>
                <a:lnTo>
                  <a:pt x="17806" y="12142"/>
                </a:lnTo>
                <a:lnTo>
                  <a:pt x="3794" y="19148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755640" y="1268280"/>
            <a:ext cx="79930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Чтобы расти здоровыми, надо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равильно питатьс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ища должна быть не тольк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усной, но и …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олезно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 свой рацион питания надо больш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лючать …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овощей и фрук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родукты питания содержат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белки, жиры и углевод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411280" y="620640"/>
            <a:ext cx="633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должите предло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еловеку нужно 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ы встать и чтобы с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кувыркаться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Песни петь, дружить, смеятьс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развив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И при этом не боле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Нужно правильно пит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С самых юных лет уметь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PH02810J"/>
          <p:cNvPicPr/>
          <p:nvPr/>
        </p:nvPicPr>
        <p:blipFill>
          <a:blip r:embed="rId1"/>
          <a:stretch/>
        </p:blipFill>
        <p:spPr>
          <a:xfrm>
            <a:off x="7383600" y="5495760"/>
            <a:ext cx="1760400" cy="1362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PH02759J"/>
          <p:cNvPicPr/>
          <p:nvPr/>
        </p:nvPicPr>
        <p:blipFill>
          <a:blip r:embed="rId2"/>
          <a:stretch/>
        </p:blipFill>
        <p:spPr>
          <a:xfrm>
            <a:off x="6732720" y="4292640"/>
            <a:ext cx="18000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6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9:39:22Z</dcterms:created>
  <dc:creator>1</dc:creator>
  <dc:description/>
  <dc:language>en-US</dc:language>
  <cp:lastModifiedBy>Дарёна</cp:lastModifiedBy>
  <dcterms:modified xsi:type="dcterms:W3CDTF">2012-01-12T10:15:35Z</dcterms:modified>
  <cp:revision>16</cp:revision>
  <dc:subject/>
  <dc:title>Слайд 1</dc:title>
</cp:coreProperties>
</file>